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671E-3E57-4752-8648-4BA932AB5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5B54-7674-4D4B-9AEA-EB0D99FA2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33B0-122B-40BD-8F0D-0E7C965EF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C408-8D74-4BE7-83A6-F6865ED69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FE89-D23E-4072-BB84-ED1629F49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BE92-D0EA-49F5-BB15-387CAB930E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8011-0710-4C43-9CF1-AD8DF24231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B785-908E-406F-B6C3-E108A27EA6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088D9-5D2D-4E41-B7BE-7CEB12BE78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E484-72E2-42D7-A75D-907B938EB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F29F-EC8F-4CB9-ADB2-E0A67E6272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F170-7267-4BA4-87F4-25A94014B3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DEFE-E423-433E-ACC9-207E663DF7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21CAD-CA92-48DB-97EC-7D1721FB4B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11EA-0187-4A22-A30C-ED86D65AFF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68DA-733C-43CA-8DD1-BB5FB2C6BF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F852-19B8-4B74-AAC2-41D9C4A0E8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360D-6A46-4802-B5D4-7187E2B9B5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ED61-E3CD-4FDF-B7B5-727F9AA8B1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ABC-2A77-4D34-8ECF-14F6272B42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C7A-8494-404F-A063-897DE4785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8937-AB0C-4C43-9748-5D8894A205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335-9FF6-4819-965E-D8FA764931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997-7150-4C65-801E-9FA2EFC977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F10-99B8-4316-A947-CDFF5D0F63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522-883D-4838-B966-376AF13B88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B53-5BC8-4655-8F0D-5417B8490B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311-6155-4BE9-B6FF-5400E33E72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A31-31B9-4A76-B8ED-0921387165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EED-08F2-4630-83F5-D75CDC0A9C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D5B-ED2B-4EF6-B306-1CE3B40286A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56C91-FEAB-471E-AD98-2B4EAF7CA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8AB8-B758-4784-880E-F447C730B9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6FB5F-54A3-4C5F-ACF7-9DF7FC6814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E32AF-9176-418D-B16B-B3E959C1801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B8DBD-4A90-4CD9-9FEB-FF89CD70145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34067-8E15-41A7-A3D3-90BF5E4CEC1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4CCFB-9AA4-47B9-96C8-AFE58547E5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9869D-037F-4E81-9503-F171BADCCDC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3FBD5-53A5-414A-90B9-B96F214AC1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09DA1-2477-4218-97B5-027E7329D2F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710BE-04F5-4863-841B-D8FA1225FA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2EC64-DC62-48C0-9F2F-8A34E9970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E309-6966-4459-8BDD-166D5F5FB4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1E575-9DBD-4679-AB16-233E2E451AE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DCFBC-65C1-4B4B-94CC-B038D3EC2F2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1CE1F-3265-4752-96DD-6600F96BFC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A8F81-DEB9-4ECB-9A3E-1C28E6E08D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6D313-AAE9-4A30-BE19-84E86B69C9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1AC4D-9DA7-4BEB-9250-767C508B94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9F8BB-5EA3-4417-8F99-41559BAD910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3A01B-1DBD-4614-81F3-9BFE28DC2F5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73906-39E8-40E1-8386-8D4BCDF07ED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46F47-ACA7-412E-B8C7-C45858226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12B2-556F-4561-B029-4344BCA01F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4B070-326E-48A3-B263-D7F17294683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110AB-B1D0-4C1C-B95F-B96087A9C5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7630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622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2636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7630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2622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BA977-65C4-4D58-919C-8C1E2B263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11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E4AB-2F4C-4EE7-BD34-F35916FA8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36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11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36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E6A4-B329-43BE-AF3C-ADFD8AD9D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F652-A72D-4F77-A8A6-91A2C82A28D5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b6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7f7f7f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428760"/>
            <a:ext cx="8686800" cy="640080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Rectangle 10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56" name="Rectangle 10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6"/>
          <p:cNvSpPr/>
          <p:nvPr/>
        </p:nvSpPr>
        <p:spPr>
          <a:xfrm rot="16200000">
            <a:off x="-2063880" y="387720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 less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5720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Microsoft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Excel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990720" y="1660680"/>
            <a:ext cx="8153280" cy="4114800"/>
            <a:chOff x="990720" y="1660680"/>
            <a:chExt cx="8153280" cy="4114800"/>
          </a:xfrm>
        </p:grpSpPr>
        <p:sp>
          <p:nvSpPr>
            <p:cNvPr id="62" name="Rectangle 4"/>
            <p:cNvSpPr/>
            <p:nvPr/>
          </p:nvSpPr>
          <p:spPr>
            <a:xfrm>
              <a:off x="7132680" y="1660680"/>
              <a:ext cx="201132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4"/>
            <a:stretch/>
          </p:blipFill>
          <p:spPr>
            <a:xfrm>
              <a:off x="990720" y="1660680"/>
              <a:ext cx="617220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Straight Connector 4"/>
          <p:cNvSpPr/>
          <p:nvPr/>
        </p:nvSpPr>
        <p:spPr>
          <a:xfrm>
            <a:off x="1447920" y="-76320"/>
            <a:ext cx="0" cy="76320"/>
          </a:xfrm>
          <a:prstGeom prst="line">
            <a:avLst/>
          </a:prstGeom>
          <a:ln w="9360">
            <a:solidFill>
              <a:srgbClr val="9bd2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2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B541-5D78-43A0-B473-52711EE96BD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6"/>
          <p:cNvSpPr/>
          <p:nvPr/>
        </p:nvSpPr>
        <p:spPr>
          <a:xfrm>
            <a:off x="0" y="0"/>
            <a:ext cx="1066680" cy="13716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7200" y="457200"/>
            <a:ext cx="8686800" cy="6400800"/>
          </a:xfrm>
          <a:prstGeom prst="rect">
            <a:avLst/>
          </a:prstGeom>
          <a:gradFill rotWithShape="0">
            <a:gsLst>
              <a:gs pos="0">
                <a:srgbClr val="26886d"/>
              </a:gs>
              <a:gs pos="100000">
                <a:srgbClr val="8ed4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2286000" y="2133720"/>
            <a:ext cx="6858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ectangle 13"/>
          <p:cNvGrpSpPr/>
          <p:nvPr/>
        </p:nvGrpSpPr>
        <p:grpSpPr>
          <a:xfrm>
            <a:off x="450720" y="6486480"/>
            <a:ext cx="8699760" cy="378000"/>
            <a:chOff x="450720" y="6486480"/>
            <a:chExt cx="8699760" cy="378000"/>
          </a:xfrm>
        </p:grpSpPr>
        <p:pic>
          <p:nvPicPr>
            <p:cNvPr id="160" name="Rectangle 13" descr=""/>
            <p:cNvPicPr/>
            <p:nvPr/>
          </p:nvPicPr>
          <p:blipFill>
            <a:blip r:embed="rId3"/>
            <a:stretch/>
          </p:blipFill>
          <p:spPr>
            <a:xfrm>
              <a:off x="450720" y="6486480"/>
              <a:ext cx="86997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57200" y="6492960"/>
              <a:ext cx="8686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14"/>
          <p:cNvSpPr/>
          <p:nvPr/>
        </p:nvSpPr>
        <p:spPr>
          <a:xfrm>
            <a:off x="3657600" y="6521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1444680" y="1365120"/>
            <a:ext cx="1682640" cy="3683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3"/>
          </p:nvPr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55C4-1BAE-4A1A-B882-E7FDA325989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4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D2C8-41DB-4617-82F0-CEFAF773110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solidFill>
            <a:srgbClr val="195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0"/>
            <a:ext cx="9144000" cy="1189080"/>
          </a:xfrm>
          <a:prstGeom prst="rect">
            <a:avLst/>
          </a:prstGeom>
          <a:gradFill rotWithShape="0">
            <a:gsLst>
              <a:gs pos="0">
                <a:srgbClr val="195b48"/>
              </a:gs>
              <a:gs pos="100000">
                <a:srgbClr val="3488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0" y="1143000"/>
            <a:ext cx="9144000" cy="92160"/>
          </a:xfrm>
          <a:prstGeom prst="rect">
            <a:avLst/>
          </a:prstGeom>
          <a:solidFill>
            <a:srgbClr val="45b6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 rot="16200000">
            <a:off x="-2063520" y="389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 lesso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57200" y="6492960"/>
            <a:ext cx="8686800" cy="3650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4343400" y="640044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© 2011 The McGraw-Hill Companies, Inc.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"/>
          <p:cNvPicPr/>
          <p:nvPr/>
        </p:nvPicPr>
        <p:blipFill>
          <a:blip r:embed="rId2"/>
          <a:stretch/>
        </p:blipFill>
        <p:spPr>
          <a:xfrm>
            <a:off x="-158760" y="-76320"/>
            <a:ext cx="1231920" cy="13716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4e3b6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b4e3b6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636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5"/>
          </p:nvPr>
        </p:nvSpPr>
        <p:spPr>
          <a:xfrm>
            <a:off x="209520" y="475920"/>
            <a:ext cx="914400" cy="47628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F967-7294-4A99-AB19-25DFDD44B8BB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Subtitle 2" descr=""/>
          <p:cNvPicPr/>
          <p:nvPr/>
        </p:nvPicPr>
        <p:blipFill>
          <a:blip r:embed="rId1"/>
          <a:stretch/>
        </p:blipFill>
        <p:spPr>
          <a:xfrm>
            <a:off x="4084560" y="1646280"/>
            <a:ext cx="4456080" cy="725400"/>
          </a:xfrm>
          <a:prstGeom prst="rect">
            <a:avLst/>
          </a:prstGeom>
          <a:ln w="0">
            <a:noFill/>
          </a:ln>
        </p:spPr>
      </p:pic>
      <p:pic>
        <p:nvPicPr>
          <p:cNvPr id="296" name="Title 1" descr=""/>
          <p:cNvPicPr/>
          <p:nvPr/>
        </p:nvPicPr>
        <p:blipFill>
          <a:blip r:embed="rId2"/>
          <a:stretch/>
        </p:blipFill>
        <p:spPr>
          <a:xfrm>
            <a:off x="3943440" y="2255760"/>
            <a:ext cx="524340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914400" y="212760"/>
            <a:ext cx="8290080" cy="80496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ultiplication formulas use the * (asterisk) symbol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ivision formulas use the / (forward slash) symbol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Results are formatted with decimals if the result is not a whole number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5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hen multiplying or dividing by a percent, you can key the actual percent (75%) or its decimal equivalent (.75)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585324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=B8*C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5853240" y="2963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=B9/C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5943600" y="5486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=B3*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=B3*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927000" y="171360"/>
            <a:ext cx="8375760" cy="846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cent Style         multiplies a value by 100 to convert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ma Style         inserts commas as thousands’ separators and sets 2 decimal posi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ncrease Decimal button          adds a decimal position with each clic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ecrease Decimal button         removes a decimal position with each clic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2"/>
          <a:stretch/>
        </p:blipFill>
        <p:spPr>
          <a:xfrm>
            <a:off x="3446640" y="1612800"/>
            <a:ext cx="414000" cy="41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32" name="Picture 5" descr=""/>
          <p:cNvPicPr/>
          <p:nvPr/>
        </p:nvPicPr>
        <p:blipFill>
          <a:blip r:embed="rId3"/>
          <a:stretch/>
        </p:blipFill>
        <p:spPr>
          <a:xfrm>
            <a:off x="3471840" y="2540160"/>
            <a:ext cx="414360" cy="41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33" name="Picture 6" descr=""/>
          <p:cNvPicPr/>
          <p:nvPr/>
        </p:nvPicPr>
        <p:blipFill>
          <a:blip r:embed="rId4"/>
          <a:stretch/>
        </p:blipFill>
        <p:spPr>
          <a:xfrm>
            <a:off x="5892840" y="4935600"/>
            <a:ext cx="384120" cy="38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34" name="Picture 7" descr=""/>
          <p:cNvPicPr/>
          <p:nvPr/>
        </p:nvPicPr>
        <p:blipFill>
          <a:blip r:embed="rId5"/>
          <a:stretch/>
        </p:blipFill>
        <p:spPr>
          <a:xfrm>
            <a:off x="5818320" y="3962520"/>
            <a:ext cx="380880" cy="380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35" name="TextBox 8"/>
          <p:cNvSpPr/>
          <p:nvPr/>
        </p:nvSpPr>
        <p:spPr>
          <a:xfrm>
            <a:off x="6578640" y="209088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.33  =  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3"/>
          <p:cNvSpPr/>
          <p:nvPr/>
        </p:nvSpPr>
        <p:spPr>
          <a:xfrm>
            <a:off x="6248520" y="3429000"/>
            <a:ext cx="265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b64b"/>
                </a:solidFill>
                <a:latin typeface="Corbel"/>
              </a:rPr>
              <a:t>12345  =  12,345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38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290920" cy="1511280"/>
          </a:xfrm>
          <a:prstGeom prst="rect">
            <a:avLst/>
          </a:prstGeom>
          <a:ln w="0">
            <a:noFill/>
          </a:ln>
        </p:spPr>
      </p:pic>
      <p:sp>
        <p:nvSpPr>
          <p:cNvPr id="339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0DC6-391B-48C6-8C04-DD790C08C77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2"/>
          <a:stretch/>
        </p:blipFill>
        <p:spPr>
          <a:xfrm>
            <a:off x="4114800" y="2168640"/>
            <a:ext cx="4681440" cy="40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TextBox 3"/>
          <p:cNvSpPr/>
          <p:nvPr/>
        </p:nvSpPr>
        <p:spPr>
          <a:xfrm>
            <a:off x="1490760" y="1303200"/>
            <a:ext cx="67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highlight cells rule uses comparison or relational operators to apply formatting to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4"/>
          <p:cNvSpPr/>
          <p:nvPr/>
        </p:nvSpPr>
        <p:spPr>
          <a:xfrm>
            <a:off x="914400" y="373392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hose cells with values less than zero (negative values) will be shown with light red fi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45" name="Title 5" descr=""/>
          <p:cNvPicPr/>
          <p:nvPr/>
        </p:nvPicPr>
        <p:blipFill>
          <a:blip r:embed="rId2"/>
          <a:stretch/>
        </p:blipFill>
        <p:spPr>
          <a:xfrm>
            <a:off x="3024360" y="2724120"/>
            <a:ext cx="5821200" cy="2085840"/>
          </a:xfrm>
          <a:prstGeom prst="rect">
            <a:avLst/>
          </a:prstGeom>
          <a:ln w="0">
            <a:noFill/>
          </a:ln>
        </p:spPr>
      </p:pic>
      <p:sp>
        <p:nvSpPr>
          <p:cNvPr id="346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7EA4-7E90-40C7-BD50-0D7B6F186ADD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957240" y="-6480"/>
            <a:ext cx="8345520" cy="11588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990360" y="19047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Order of precedence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termines what part of a formula is calculated firs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se math rules are also known as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order of operatio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ath hierarch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rentheses can be used to set order of precede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5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1830240" y="1828800"/>
            <a:ext cx="5942160" cy="394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2500200" y="1447920"/>
            <a:ext cx="3996000" cy="47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54" name="TextBox 3"/>
          <p:cNvSpPr/>
          <p:nvPr/>
        </p:nvSpPr>
        <p:spPr>
          <a:xfrm>
            <a:off x="457200" y="1371600"/>
            <a:ext cx="213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utoCalculate enables you to quickly see formula results in the status bar for selected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"/>
          <p:cNvGrpSpPr/>
          <p:nvPr/>
        </p:nvGrpSpPr>
        <p:grpSpPr>
          <a:xfrm>
            <a:off x="2590920" y="1523880"/>
            <a:ext cx="6335640" cy="4572000"/>
            <a:chOff x="2590920" y="1523880"/>
            <a:chExt cx="6335640" cy="4572000"/>
          </a:xfrm>
        </p:grpSpPr>
        <p:pic>
          <p:nvPicPr>
            <p:cNvPr id="356" name="Picture 5" descr=""/>
            <p:cNvPicPr/>
            <p:nvPr/>
          </p:nvPicPr>
          <p:blipFill>
            <a:blip r:embed="rId2"/>
            <a:stretch/>
          </p:blipFill>
          <p:spPr>
            <a:xfrm>
              <a:off x="2590920" y="1523880"/>
              <a:ext cx="6335640" cy="4530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57" name="Rounded Rectangle 7"/>
            <p:cNvSpPr/>
            <p:nvPr/>
          </p:nvSpPr>
          <p:spPr>
            <a:xfrm>
              <a:off x="6095880" y="4495680"/>
              <a:ext cx="2361960" cy="914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8"/>
            <p:cNvSpPr/>
            <p:nvPr/>
          </p:nvSpPr>
          <p:spPr>
            <a:xfrm>
              <a:off x="6171840" y="5867280"/>
              <a:ext cx="213336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9"/>
            <p:cNvSpPr/>
            <p:nvPr/>
          </p:nvSpPr>
          <p:spPr>
            <a:xfrm>
              <a:off x="4343400" y="2742840"/>
              <a:ext cx="182844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61" name="Title 5" descr=""/>
          <p:cNvPicPr/>
          <p:nvPr/>
        </p:nvPicPr>
        <p:blipFill>
          <a:blip r:embed="rId2"/>
          <a:stretch/>
        </p:blipFill>
        <p:spPr>
          <a:xfrm>
            <a:off x="3024360" y="2724120"/>
            <a:ext cx="5705280" cy="208584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7B55-29DA-4263-93BA-7CDEBA9E59F4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12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BAA1-0176-45D0-A0DB-8F7FD7C24DE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Content Placeholder 3" descr=""/>
          <p:cNvPicPr/>
          <p:nvPr/>
        </p:nvPicPr>
        <p:blipFill>
          <a:blip r:embed="rId2"/>
          <a:stretch/>
        </p:blipFill>
        <p:spPr>
          <a:xfrm>
            <a:off x="378000" y="1395360"/>
            <a:ext cx="8442000" cy="485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927000" y="225360"/>
            <a:ext cx="8412120" cy="781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a relative cell reference, Excel adjusts a copied formula based on the row or column where the copy is located. This is the default reference type and behavi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n absolute reference, nothing is changed when a formula is copied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a mixed reference, part of the cell reference is adjusted when a formula is copi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1676520" y="1447920"/>
            <a:ext cx="6014880" cy="29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7" name="Rectangle 3"/>
          <p:cNvSpPr/>
          <p:nvPr/>
        </p:nvSpPr>
        <p:spPr>
          <a:xfrm>
            <a:off x="1676520" y="4572000"/>
            <a:ext cx="6705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8680" indent="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dollar sign in a cell reference is a reserved symbol. It does not represent cur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80" indent="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3-D reference is a cell address on a different worksheet in the work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680" indent="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990720" y="13716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Split command displays different worksheets or different parts of the same worksheet on screen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" descr=""/>
          <p:cNvPicPr/>
          <p:nvPr/>
        </p:nvPicPr>
        <p:blipFill>
          <a:blip r:embed="rId2"/>
          <a:stretch/>
        </p:blipFill>
        <p:spPr>
          <a:xfrm>
            <a:off x="1066680" y="2362320"/>
            <a:ext cx="7597800" cy="360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7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668920" cy="1511280"/>
          </a:xfrm>
          <a:prstGeom prst="rect">
            <a:avLst/>
          </a:prstGeom>
          <a:ln w="0">
            <a:noFill/>
          </a:ln>
        </p:spPr>
      </p:pic>
      <p:sp>
        <p:nvSpPr>
          <p:cNvPr id="37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4C49-8298-4E11-889E-92FCCC510B38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8315280" cy="7873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1219320" y="16765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ny commands to prepare a worksheet for printed output are available on the Page Layout command t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8345520" cy="119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8315280" cy="7873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"/>
          <p:cNvSpPr/>
          <p:nvPr/>
        </p:nvSpPr>
        <p:spPr>
          <a:xfrm>
            <a:off x="762120" y="2057400"/>
            <a:ext cx="8001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hange page margi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t the page orien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hoose a paper and page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et a print area and/or print tit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cale the worksheet to fit the page or print larger than the p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Print gridlines and column and row head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fine page brea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buClr>
                <a:srgbClr val="45b64b"/>
              </a:buClr>
              <a:buFont typeface="Wingdings" charset="2"/>
              <a:buChar char="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dd a background color or im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"/>
          <p:cNvSpPr/>
          <p:nvPr/>
        </p:nvSpPr>
        <p:spPr>
          <a:xfrm>
            <a:off x="762120" y="138096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rom the Page Layout command tab, you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8315280" cy="787320"/>
          </a:xfrm>
          <a:prstGeom prst="rect">
            <a:avLst/>
          </a:prstGeom>
          <a:ln w="0">
            <a:noFill/>
          </a:ln>
        </p:spPr>
      </p:pic>
      <p:sp>
        <p:nvSpPr>
          <p:cNvPr id="381" name="TextBox 2"/>
          <p:cNvSpPr/>
          <p:nvPr/>
        </p:nvSpPr>
        <p:spPr>
          <a:xfrm>
            <a:off x="914400" y="1295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ge orientation for a worksheet can be portrait or land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4314960" y="2184480"/>
            <a:ext cx="4752720" cy="3732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511200" y="1752480"/>
            <a:ext cx="3728880" cy="472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066680" y="212760"/>
            <a:ext cx="8315280" cy="7873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2"/>
          <p:cNvSpPr/>
          <p:nvPr/>
        </p:nvSpPr>
        <p:spPr>
          <a:xfrm>
            <a:off x="533520" y="14479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caling sets the printed size using a percentage. It can be larger or smaller than 100%. You can also choose the number of pages to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1724040" cy="102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7" name="Picture 3" descr=""/>
          <p:cNvPicPr/>
          <p:nvPr/>
        </p:nvPicPr>
        <p:blipFill>
          <a:blip r:embed="rId3"/>
          <a:stretch/>
        </p:blipFill>
        <p:spPr>
          <a:xfrm>
            <a:off x="5334120" y="3276720"/>
            <a:ext cx="225900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987480" y="212760"/>
            <a:ext cx="8315280" cy="7873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2"/>
          <p:cNvSpPr/>
          <p:nvPr/>
        </p:nvSpPr>
        <p:spPr>
          <a:xfrm>
            <a:off x="1371600" y="12193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 image can be used a background. A background appears on screen or in a Web page. It does not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" descr=""/>
          <p:cNvPicPr/>
          <p:nvPr/>
        </p:nvPicPr>
        <p:blipFill>
          <a:blip r:embed="rId2"/>
          <a:stretch/>
        </p:blipFill>
        <p:spPr>
          <a:xfrm>
            <a:off x="1806480" y="2079720"/>
            <a:ext cx="604224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92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765760" cy="151128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0468-C7AD-4C6B-8AF0-D6E1D0631B6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01" name="Title 5" descr=""/>
          <p:cNvPicPr/>
          <p:nvPr/>
        </p:nvPicPr>
        <p:blipFill>
          <a:blip r:embed="rId2"/>
          <a:stretch/>
        </p:blipFill>
        <p:spPr>
          <a:xfrm>
            <a:off x="3024360" y="2749680"/>
            <a:ext cx="5960880" cy="151128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D0A5-99C5-4FBD-8BBF-285BD8B53FB6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158840" y="60480"/>
            <a:ext cx="7991640" cy="9396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2"/>
          <p:cNvSpPr/>
          <p:nvPr/>
        </p:nvSpPr>
        <p:spPr>
          <a:xfrm>
            <a:off x="838080" y="1828800"/>
            <a:ext cx="358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orksheets can be copied for entering new or edited data. You can also move a worksheet from the Move or Copy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935520" cy="375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1158840" y="-6480"/>
            <a:ext cx="799164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TextBox 2"/>
          <p:cNvSpPr/>
          <p:nvPr/>
        </p:nvSpPr>
        <p:spPr>
          <a:xfrm>
            <a:off x="1600200" y="15238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worksheets are grouped, you can apply many commands to all sheets in the group a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" descr=""/>
          <p:cNvPicPr/>
          <p:nvPr/>
        </p:nvPicPr>
        <p:blipFill>
          <a:blip r:embed="rId2"/>
          <a:stretch/>
        </p:blipFill>
        <p:spPr>
          <a:xfrm>
            <a:off x="1028880" y="2971800"/>
            <a:ext cx="75816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0" name="TextBox 4"/>
          <p:cNvSpPr/>
          <p:nvPr/>
        </p:nvSpPr>
        <p:spPr>
          <a:xfrm>
            <a:off x="2057400" y="48769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add a header or a footer to grouped sheets using the Page Setup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cel formulas use common arithmetic operators to perform many types of calculatio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are automatically checked for certain types of errors, such as a reference to an empty cell or inconsistent formulas in a colum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8520" indent="-30852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though Excel can tag certain types of formula errors, it does not correct them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ercent style converts a decimal value to its percentage equivalent and displays a percent symbo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Comma style displays values with thousands’ separators (commas) and two decimal plac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re are command buttons in the Number group to increase or decrease decimal positions in a value, to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143000" y="1980720"/>
            <a:ext cx="7315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highlight cells rule is conditional formatting that applies formatting based on a rule set using a relational operato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Paste Special to copy only formats from one cell to anoth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 Go To Special to select cells that meet a particular criteria such as all cells with conditional forma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calculating its formulas, Excel follows mathematical order of precedenc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define the order of precedence for a formula by keying parentheses around calculations that should be performed firs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utoCalculate is an Excel feature in the status bar that displays sums, averages, and other totals for selected cell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ell addresses in a formula can be specified as relative, absolute, or mixed. These references determine what happens when the formula is copi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3-D reference is a cell address that refers to a cell on a different worksheet in the same workbook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mulas can be displayed in full for documentation or help in locating problem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rbel"/>
              </a:rPr>
              <a:t>Portrait orientation prints a vertical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ndscape orientation prints a horizontal pag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Scale to Fit group on the Page Layout command tab enables you to print the worksheet in a reduced or enlarged siz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-3258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ridlines and row and column headings can be set to display and to pri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295280" y="182880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books or individual sheets can be saved as Web pages for viewing in most browse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can add an image as a sheet background for display on a Web page. These backgrounds do not prin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sheet columns and/or rows can be hidden from view and unhidden when necessar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1294920" y="1904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entire worksheet with data and formatting can be copied using the Move and Copy dialog box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commands can be applied to several worksheets at once by grouping the shee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0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d a header or a footer to grouped sheets using the Page Setup dialog box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981000" y="212760"/>
            <a:ext cx="8248680" cy="8049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29840" y="1905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ddition formulas total or sum cell values using the + operator. You can key cell addresses or you can point and click each on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4419720" y="1352520"/>
            <a:ext cx="4390920" cy="506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1060560" y="212760"/>
            <a:ext cx="8242200" cy="8049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72392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traction formulas compute the difference between cells using the – operato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601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use the – sign in the ten-key pad or in the row of numbers at the top of the keyboar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Picture 1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5307120" cy="26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9" name="Oval 2"/>
          <p:cNvSpPr/>
          <p:nvPr/>
        </p:nvSpPr>
        <p:spPr>
          <a:xfrm>
            <a:off x="5638680" y="3429000"/>
            <a:ext cx="6858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914040" y="22856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ells containing formulas that result in an error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consistent calculated column formula in an Excel tabl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ells containing years represented as two digit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Numbers formatted as text or preceded by an apostroph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rmulas inconsistent with other formulas in the regio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rmulas which omit cells in a regio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Unlocked cells containing formul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Formulas referring to empty cell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valid data entered in an Excel table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spcBef>
                <a:spcPts val="550"/>
              </a:spcBef>
              <a:buClr>
                <a:srgbClr val="45b6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TextBox 3"/>
          <p:cNvSpPr/>
          <p:nvPr/>
        </p:nvSpPr>
        <p:spPr>
          <a:xfrm>
            <a:off x="533520" y="1295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following types of errors can be tagged. Set your choices from the Formulas pane in the Excel Options dialog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6553080" y="5029200"/>
            <a:ext cx="2362320" cy="538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default setting, this rule is not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Straight Arrow Connector 8"/>
          <p:cNvCxnSpPr/>
          <p:nvPr/>
        </p:nvCxnSpPr>
        <p:spPr>
          <a:xfrm flipH="1">
            <a:off x="5562000" y="5297040"/>
            <a:ext cx="9910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2"/>
          <a:srcRect l="0" t="68201" r="0" b="0"/>
          <a:stretch/>
        </p:blipFill>
        <p:spPr>
          <a:xfrm>
            <a:off x="1600200" y="2895480"/>
            <a:ext cx="628344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7" name="TextBox 4"/>
          <p:cNvSpPr/>
          <p:nvPr/>
        </p:nvSpPr>
        <p:spPr>
          <a:xfrm>
            <a:off x="1752480" y="16765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Error Checking Options button provides options for dealing with a recognized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969840" y="-6480"/>
            <a:ext cx="80280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789120" y="1447920"/>
            <a:ext cx="82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You can display formulas on screen as a way to locate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892080" y="2120760"/>
            <a:ext cx="7871040" cy="376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ext Placeholder 6" descr=""/>
          <p:cNvPicPr/>
          <p:nvPr/>
        </p:nvPicPr>
        <p:blipFill>
          <a:blip r:embed="rId1"/>
          <a:stretch/>
        </p:blipFill>
        <p:spPr>
          <a:xfrm>
            <a:off x="3157560" y="2286000"/>
            <a:ext cx="2792520" cy="615960"/>
          </a:xfrm>
          <a:prstGeom prst="rect">
            <a:avLst/>
          </a:prstGeom>
          <a:ln w="0">
            <a:noFill/>
          </a:ln>
        </p:spPr>
      </p:pic>
      <p:pic>
        <p:nvPicPr>
          <p:cNvPr id="322" name="Title 5" descr=""/>
          <p:cNvPicPr/>
          <p:nvPr/>
        </p:nvPicPr>
        <p:blipFill>
          <a:blip r:embed="rId2"/>
          <a:stretch/>
        </p:blipFill>
        <p:spPr>
          <a:xfrm>
            <a:off x="3024360" y="2676600"/>
            <a:ext cx="5668920" cy="2084400"/>
          </a:xfrm>
          <a:prstGeom prst="rect">
            <a:avLst/>
          </a:prstGeom>
          <a:ln w="0">
            <a:noFill/>
          </a:ln>
        </p:spPr>
      </p:pic>
      <p:sp>
        <p:nvSpPr>
          <p:cNvPr id="323" name="Slide Number Placeholder 14"/>
          <p:cNvSpPr/>
          <p:nvPr/>
        </p:nvSpPr>
        <p:spPr>
          <a:xfrm>
            <a:off x="0" y="6492960"/>
            <a:ext cx="457200" cy="365040"/>
          </a:xfrm>
          <a:prstGeom prst="rect">
            <a:avLst/>
          </a:prstGeom>
          <a:solidFill>
            <a:srgbClr val="235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6C48-7165-484D-972B-7E094873CAD7}" type="slidenum">
              <a:rPr b="1" lang="en-US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7:00:57Z</dcterms:created>
  <dc:creator>Pat R. Graves</dc:creator>
  <dc:description/>
  <dc:language>en-US</dc:language>
  <cp:lastModifiedBy>cathy_tepper</cp:lastModifiedBy>
  <dcterms:modified xsi:type="dcterms:W3CDTF">2010-07-07T21:07:15Z</dcterms:modified>
  <cp:revision>77</cp:revision>
  <dc:subject/>
  <dc:title>Microsoft office</dc:title>
</cp:coreProperties>
</file>